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446F-CE95-4F7C-809A-5B7DEA5D2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8BCD-3F4A-4C73-8A54-12BC71907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DD12-E1AC-4A69-83AE-12A22DC0C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989B-444B-4A20-A60C-0B10E388F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3591-3E8D-4DA2-8702-4FA18DA3D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95F9-F883-4D66-9C30-697130573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69D0-D994-4B41-B9A8-618BC1FF7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B6C3-8659-4D94-8E51-6720E69B8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A7A4-BDAF-4ACC-8476-3BC34DF93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C151-C516-45D8-BA90-08A62F326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7D51-7332-48D6-BCF2-9DDE0E46E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A207-BFD3-4E67-83E7-0F79213C6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26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gasus CIM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5CCAA-1D34-4D6D-B92A-05793543E1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gasus Security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733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or: Nag Bora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wlett-Packard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ED50-852B-47DF-9D6B-CF9F6B0B313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990720"/>
            <a:ext cx="88394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 (to enable HTTP Basic Authent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to create/use the password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Add new users to cimom (Refer to pegasus/src/Clients/cimuser/doc/cimuser.ht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user ‘nag’ with password ‘nag’ (user ‘nag’ must be valid system user on that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user -a -u nag -w n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the cimuser CLI can only be run locally as ‘root’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Basic/Digest authentication are not fully implemented on the CIMServer and the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C4D5-7662-4900-BA80-977C21D5BC5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843120"/>
            <a:ext cx="8991720" cy="46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false (to disable remote root user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Add authorizations to the CIM users (Refer to pegasus/src/Clients/cimuser/doc/cimauth.ht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both read and right authorizations to user ‘nag’ on namespace ‘root/cimv2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auth -a -u nag -n root/cimv2 -R -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user ‘root’ by default will have all the authorizations for local clients (the clients that use ConnectLocal() of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The cimauth CLI can only be run locally as ‘root’ on Unix syst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21A6-E6F0-455F-AAF9-4101051EE88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25560" y="2138400"/>
            <a:ext cx="78912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9907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92240" y="260496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26668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4" idx="3"/>
            <a:endCxn id="45" idx="1"/>
          </p:cNvCxnSpPr>
          <p:nvPr/>
        </p:nvCxnSpPr>
        <p:spPr>
          <a:xfrm flipV="1">
            <a:off x="1714680" y="1273320"/>
            <a:ext cx="267120" cy="1148040"/>
          </a:xfrm>
          <a:prstGeom prst="curvedConnector5">
            <a:avLst>
              <a:gd name="adj1" fmla="val 49932"/>
              <a:gd name="adj2" fmla="val 50000"/>
              <a:gd name="adj3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4" idx="3"/>
            <a:endCxn id="46" idx="1"/>
          </p:cNvCxnSpPr>
          <p:nvPr/>
        </p:nvCxnSpPr>
        <p:spPr>
          <a:xfrm>
            <a:off x="1714320" y="2421000"/>
            <a:ext cx="278280" cy="467280"/>
          </a:xfrm>
          <a:prstGeom prst="curvedConnector5">
            <a:avLst>
              <a:gd name="adj1" fmla="val 49611"/>
              <a:gd name="adj2" fmla="val 49961"/>
              <a:gd name="adj3" fmla="val 496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2124000" y="2730600"/>
            <a:ext cx="11160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Cloud"/>
          <p:cNvSpPr/>
          <p:nvPr/>
        </p:nvSpPr>
        <p:spPr>
          <a:xfrm>
            <a:off x="304920" y="4800600"/>
            <a:ext cx="1314360" cy="812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4"/>
            <a:endCxn id="44" idx="1"/>
          </p:cNvCxnSpPr>
          <p:nvPr/>
        </p:nvCxnSpPr>
        <p:spPr>
          <a:xfrm flipH="1" rot="10800000">
            <a:off x="308520" y="2420280"/>
            <a:ext cx="616680" cy="2786760"/>
          </a:xfrm>
          <a:prstGeom prst="curvedConnector5">
            <a:avLst>
              <a:gd name="adj1" fmla="val -37850"/>
              <a:gd name="adj2" fmla="val 50000"/>
              <a:gd name="adj3" fmla="val -378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6" idx="0"/>
          </p:cNvCxnSpPr>
          <p:nvPr/>
        </p:nvCxnSpPr>
        <p:spPr>
          <a:xfrm flipH="1" rot="16200000">
            <a:off x="2021040" y="2074680"/>
            <a:ext cx="1049760" cy="11520"/>
          </a:xfrm>
          <a:prstGeom prst="curvedConnector5">
            <a:avLst>
              <a:gd name="adj1" fmla="val 49914"/>
              <a:gd name="adj2" fmla="val 48387"/>
              <a:gd name="adj3" fmla="val 49914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 rot="5400000">
            <a:off x="2454480" y="211536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4520" y="46483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leg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5600" y="4191120"/>
            <a:ext cx="144468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5600" y="5029200"/>
            <a:ext cx="144468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838080"/>
            <a:ext cx="144612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0" idx="2"/>
            <a:endCxn id="55" idx="1"/>
          </p:cNvCxnSpPr>
          <p:nvPr/>
        </p:nvCxnSpPr>
        <p:spPr>
          <a:xfrm flipH="1" rot="16200000">
            <a:off x="2315160" y="3662280"/>
            <a:ext cx="1635840" cy="902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3"/>
            <a:endCxn id="56" idx="1"/>
          </p:cNvCxnSpPr>
          <p:nvPr/>
        </p:nvCxnSpPr>
        <p:spPr>
          <a:xfrm flipV="1">
            <a:off x="4702320" y="4536720"/>
            <a:ext cx="864000" cy="394560"/>
          </a:xfrm>
          <a:prstGeom prst="curvedConnector5">
            <a:avLst>
              <a:gd name="adj1" fmla="val 49979"/>
              <a:gd name="adj2" fmla="val 49954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3"/>
            <a:endCxn id="57" idx="1"/>
          </p:cNvCxnSpPr>
          <p:nvPr/>
        </p:nvCxnSpPr>
        <p:spPr>
          <a:xfrm>
            <a:off x="4702320" y="4930920"/>
            <a:ext cx="864000" cy="444960"/>
          </a:xfrm>
          <a:prstGeom prst="curvedConnector5">
            <a:avLst>
              <a:gd name="adj1" fmla="val 49979"/>
              <a:gd name="adj2" fmla="val 49959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7697880" y="1981080"/>
            <a:ext cx="1446120" cy="690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spat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6" idx="0"/>
            <a:endCxn id="64" idx="2"/>
          </p:cNvCxnSpPr>
          <p:nvPr/>
        </p:nvCxnSpPr>
        <p:spPr>
          <a:xfrm flipH="1" flipV="1" rot="5400000">
            <a:off x="6191640" y="3600720"/>
            <a:ext cx="686520" cy="494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2" idx="0"/>
            <a:endCxn id="58" idx="3"/>
          </p:cNvCxnSpPr>
          <p:nvPr/>
        </p:nvCxnSpPr>
        <p:spPr>
          <a:xfrm flipV="1" rot="16200000">
            <a:off x="6973560" y="532440"/>
            <a:ext cx="797400" cy="2099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8" idx="1"/>
            <a:endCxn id="50" idx="3"/>
          </p:cNvCxnSpPr>
          <p:nvPr/>
        </p:nvCxnSpPr>
        <p:spPr>
          <a:xfrm flipV="1" rot="10800000">
            <a:off x="3239280" y="1184040"/>
            <a:ext cx="1637640" cy="1829520"/>
          </a:xfrm>
          <a:prstGeom prst="curvedConnector5">
            <a:avLst>
              <a:gd name="adj1" fmla="val 49934"/>
              <a:gd name="adj2" fmla="val 49990"/>
              <a:gd name="adj3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2" idx="2"/>
            <a:endCxn id="68" idx="4"/>
          </p:cNvCxnSpPr>
          <p:nvPr/>
        </p:nvCxnSpPr>
        <p:spPr>
          <a:xfrm rot="5400000">
            <a:off x="7455960" y="3429000"/>
            <a:ext cx="1722960" cy="208800"/>
          </a:xfrm>
          <a:prstGeom prst="curvedConnector5">
            <a:avLst>
              <a:gd name="adj1" fmla="val 48463"/>
              <a:gd name="adj2" fmla="val 49913"/>
              <a:gd name="adj3" fmla="val 484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839880" y="3159000"/>
            <a:ext cx="985680" cy="439920"/>
          </a:xfrm>
          <a:prstGeom prst="wedgeRoundRectCallout">
            <a:avLst>
              <a:gd name="adj1" fmla="val 58375"/>
              <a:gd name="adj2" fmla="val -126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2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5105520"/>
            <a:ext cx="1600200" cy="914400"/>
          </a:xfrm>
          <a:prstGeom prst="wedgeRoundRectCallout">
            <a:avLst>
              <a:gd name="adj1" fmla="val 15773"/>
              <a:gd name="adj2" fmla="val -12569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3. HTTP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5.HTTP Challenge Response 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5638680"/>
            <a:ext cx="853920" cy="627120"/>
          </a:xfrm>
          <a:prstGeom prst="wedgeRoundRectCallout">
            <a:avLst>
              <a:gd name="adj1" fmla="val 64685"/>
              <a:gd name="adj2" fmla="val -12822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6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160020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8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380880"/>
            <a:ext cx="853920" cy="627120"/>
          </a:xfrm>
          <a:prstGeom prst="wedgeRoundRectCallout">
            <a:avLst>
              <a:gd name="adj1" fmla="val -41078"/>
              <a:gd name="adj2" fmla="val 10113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9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838080"/>
            <a:ext cx="914400" cy="690840"/>
          </a:xfrm>
          <a:prstGeom prst="wedgeRoundRectCallout">
            <a:avLst>
              <a:gd name="adj1" fmla="val 50694"/>
              <a:gd name="adj2" fmla="val 6563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0.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Cloud"/>
          <p:cNvSpPr/>
          <p:nvPr/>
        </p:nvSpPr>
        <p:spPr>
          <a:xfrm>
            <a:off x="7391520" y="4343400"/>
            <a:ext cx="1643040" cy="879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vi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50" idx="2"/>
            <a:endCxn id="51" idx="5"/>
          </p:cNvCxnSpPr>
          <p:nvPr/>
        </p:nvCxnSpPr>
        <p:spPr>
          <a:xfrm rot="5400000">
            <a:off x="1194120" y="3718800"/>
            <a:ext cx="1911960" cy="1065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30040" y="1330200"/>
            <a:ext cx="1219320" cy="439920"/>
          </a:xfrm>
          <a:prstGeom prst="wedgeRoundRectCallout">
            <a:avLst>
              <a:gd name="adj1" fmla="val -26560"/>
              <a:gd name="adj2" fmla="val 239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for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4038480"/>
            <a:ext cx="984240" cy="533520"/>
          </a:xfrm>
          <a:prstGeom prst="wedgeRoundRectCallout">
            <a:avLst>
              <a:gd name="adj1" fmla="val 116611"/>
              <a:gd name="adj2" fmla="val 2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22096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55" idx="0"/>
            <a:endCxn id="78" idx="2"/>
          </p:cNvCxnSpPr>
          <p:nvPr/>
        </p:nvCxnSpPr>
        <p:spPr>
          <a:xfrm flipH="1" flipV="1" rot="5400000">
            <a:off x="3595320" y="3366720"/>
            <a:ext cx="1829520" cy="734400"/>
          </a:xfrm>
          <a:prstGeom prst="curvedConnector5">
            <a:avLst>
              <a:gd name="adj1" fmla="val 49990"/>
              <a:gd name="adj2" fmla="val 49975"/>
              <a:gd name="adj3" fmla="val 4999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55" idx="1"/>
            <a:endCxn id="50" idx="3"/>
          </p:cNvCxnSpPr>
          <p:nvPr/>
        </p:nvCxnSpPr>
        <p:spPr>
          <a:xfrm rot="10800000">
            <a:off x="3239280" y="3012480"/>
            <a:ext cx="345240" cy="1918440"/>
          </a:xfrm>
          <a:prstGeom prst="curvedConnector5">
            <a:avLst>
              <a:gd name="adj1" fmla="val 49686"/>
              <a:gd name="adj2" fmla="val 50000"/>
              <a:gd name="adj3" fmla="val 496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3581280" y="2895480"/>
            <a:ext cx="1067040" cy="762120"/>
          </a:xfrm>
          <a:prstGeom prst="wedgeRoundRectCallout">
            <a:avLst>
              <a:gd name="adj1" fmla="val -66518"/>
              <a:gd name="adj2" fmla="val 1081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4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28954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4" idx="0"/>
          </p:cNvCxnSpPr>
          <p:nvPr/>
        </p:nvCxnSpPr>
        <p:spPr>
          <a:xfrm flipH="1" flipV="1" rot="5400000">
            <a:off x="6896520" y="2093760"/>
            <a:ext cx="686520" cy="916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5257800" y="327672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7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57" idx="3"/>
            <a:endCxn id="64" idx="2"/>
          </p:cNvCxnSpPr>
          <p:nvPr/>
        </p:nvCxnSpPr>
        <p:spPr>
          <a:xfrm flipH="1" flipV="1">
            <a:off x="6780960" y="3504960"/>
            <a:ext cx="229320" cy="1870560"/>
          </a:xfrm>
          <a:prstGeom prst="curvedConnector5">
            <a:avLst>
              <a:gd name="adj1" fmla="val -100000"/>
              <a:gd name="adj2" fmla="val 36034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25A8-962B-441E-AC7E-CB51C512737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191120" y="2308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2612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514600" y="2612880"/>
            <a:ext cx="38088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24852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4898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695720" y="4898880"/>
            <a:ext cx="38124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87" idx="3"/>
            <a:endCxn id="86" idx="0"/>
          </p:cNvCxnSpPr>
          <p:nvPr/>
        </p:nvCxnSpPr>
        <p:spPr>
          <a:xfrm flipV="1">
            <a:off x="2589120" y="1752120"/>
            <a:ext cx="1627920" cy="270720"/>
          </a:xfrm>
          <a:prstGeom prst="curvedConnector5">
            <a:avLst>
              <a:gd name="adj1" fmla="val 32780"/>
              <a:gd name="adj2" fmla="val 92276"/>
              <a:gd name="adj3" fmla="val 327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endCxn id="97" idx="3"/>
          </p:cNvCxnSpPr>
          <p:nvPr/>
        </p:nvCxnSpPr>
        <p:spPr>
          <a:xfrm flipH="1" rot="16200000">
            <a:off x="5962680" y="3450960"/>
            <a:ext cx="1156320" cy="584640"/>
          </a:xfrm>
          <a:prstGeom prst="curvedConnector5">
            <a:avLst>
              <a:gd name="adj1" fmla="val 37745"/>
              <a:gd name="adj2" fmla="val 69562"/>
              <a:gd name="adj3" fmla="val 377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1295280" y="403848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82880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88" idx="1"/>
            <a:endCxn id="109" idx="1"/>
          </p:cNvCxnSpPr>
          <p:nvPr/>
        </p:nvCxnSpPr>
        <p:spPr>
          <a:xfrm flipV="1" rot="10800000">
            <a:off x="1294560" y="3161160"/>
            <a:ext cx="991440" cy="1159560"/>
          </a:xfrm>
          <a:prstGeom prst="curvedConnector5">
            <a:avLst>
              <a:gd name="adj1" fmla="val 123065"/>
              <a:gd name="adj2" fmla="val 50000"/>
              <a:gd name="adj3" fmla="val 1230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299736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endCxn id="114" idx="0"/>
          </p:cNvCxnSpPr>
          <p:nvPr/>
        </p:nvCxnSpPr>
        <p:spPr>
          <a:xfrm rot="5400000">
            <a:off x="3568320" y="3416040"/>
            <a:ext cx="610200" cy="63576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2971800" y="594360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601992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914400"/>
            <a:ext cx="990720" cy="474840"/>
          </a:xfrm>
          <a:prstGeom prst="wedgeRoundRectCallout">
            <a:avLst>
              <a:gd name="adj1" fmla="val 11537"/>
              <a:gd name="adj2" fmla="val 115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 Specif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752480"/>
            <a:ext cx="1752840" cy="855720"/>
          </a:xfrm>
          <a:prstGeom prst="wedgeRoundRectCallout">
            <a:avLst>
              <a:gd name="adj1" fmla="val -15217"/>
              <a:gd name="adj2" fmla="val 865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s HTTP Specific Information, but does not deal with the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7EDD-61C9-4892-ABE3-6D4C20B1417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3"/>
            <a:endCxn id="121" idx="1"/>
          </p:cNvCxnSpPr>
          <p:nvPr/>
        </p:nvCxnSpPr>
        <p:spPr>
          <a:xfrm>
            <a:off x="2588760" y="2022120"/>
            <a:ext cx="1755000" cy="1332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8580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1" idx="3"/>
            <a:endCxn id="124" idx="1"/>
          </p:cNvCxnSpPr>
          <p:nvPr/>
        </p:nvCxnSpPr>
        <p:spPr>
          <a:xfrm>
            <a:off x="5460480" y="2034720"/>
            <a:ext cx="139788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6934320" y="3200400"/>
            <a:ext cx="1114200" cy="677880"/>
          </a:xfrm>
          <a:prstGeom prst="can">
            <a:avLst>
              <a:gd name="adj" fmla="val 25000"/>
            </a:avLst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4" idx="2"/>
            <a:endCxn id="126" idx="1"/>
          </p:cNvCxnSpPr>
          <p:nvPr/>
        </p:nvCxnSpPr>
        <p:spPr>
          <a:xfrm flipH="1" rot="16200000">
            <a:off x="7011720" y="2721600"/>
            <a:ext cx="883440" cy="75240"/>
          </a:xfrm>
          <a:prstGeom prst="curvedConnector5">
            <a:avLst>
              <a:gd name="adj1" fmla="val 49979"/>
              <a:gd name="adj2" fmla="val 50000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 rot="16200000">
            <a:off x="6413040" y="2045160"/>
            <a:ext cx="54540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Autho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5879520" y="9763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3136320" y="9781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80C0-E0A0-4030-81C8-C0EC581CFD8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80880"/>
            <a:ext cx="8686800" cy="63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HTTPAuthenticatorDelegator que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AuthenticatorDelegator creates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Handlers (Currently it is creating instances of Authentication Handlers, but it should be changed to dynamically load those handlers)</a:t>
            </a:r>
            <a:br>
              <a:rPr sz="16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queue gets created when there is connection request from a client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creates AuthenticationInfo object to keep track of the authentication information for this connection. HTTPConnection and AuthenticationInfo object gets created for each new connect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gets CIM requests, adds AuthenticationInfo object reference &amp; passes to Delegator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legator parse the request and looks for ‘Authorization’ or ‘PegasusAuthorization’ header tag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and ‘PegasusAuthorization’ tags are not found: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getAuthResponseHeader() of the AuthenticationMange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Sends challenge to the HTTPConnection queue, and eventually to the cli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Http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Pegasus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Pegasus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 all these cases the AuthenticationInfo object is updated with the authentication status for that connection ses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1532-BE9A-4EF2-A19F-91B611BAF88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609480"/>
            <a:ext cx="8686800" cy="56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 Handl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perforHttpAuthentication() or performPegasusAuthentication() methods are cal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t parses the HTTP headers to get the auth type, user name &amp; password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authenticate() method of the Authentication Handler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On successful authentication, updates AuthenticationInfo object and returns true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getAuthResoponseHeader() method is called, it gets the header from Authentication Hand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Handle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ocalAuthenticationHandle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the Authenticator interfa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response header when getAuthResoponseHeader() method is called (may get the header information from the authenticator module)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tracts user name and password (or digest string) from the header info passed with the authenticate() and calls the authenticate() method of the loaded authenticator modu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o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ecureLocalAuthenticator)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specific authenticator interface (e.g, BasicAuthenticato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getAuthResponseHeader() method will return the authentication challenge header info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authenticate() method will verify the user name and password or the digest string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return true on successful authentication, false otherw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5605-A2FC-48C6-A003-DA2A88C78F2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934920"/>
            <a:ext cx="868680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CIMOperationRequestAuthorizer queue if requireAuthorization config property is set to tr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gets an instance of User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reates AuthirizationHand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Handler loads authorizations from the Repositor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queue receives a request message from Deco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calls verifyAuthorization( ) method of UserManage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alls verifyAuthorization( ) method of AuthorizationHandl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orizationHandler verifies the authorizations and return true if authorization were found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7D25-B589-436A-B6F1-DA694EFDCE3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09480"/>
            <a:ext cx="8686800" cy="32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MOperationRequestAuthoriz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Gets the user name, namespace, authentication type and CIM method names from the CIM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alls UserManager’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AuthirizationHandler and calls it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zation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oads authorizations from the repositor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Verifies user authorizations when verifyAuthorization( ) method is ca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7A6C-CCED-4D53-A88D-9F018C81C8D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Configu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066680"/>
            <a:ext cx="845820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entic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| Dig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use the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oriz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true | false (enable or disable remote root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AE66-7B01-4D7E-A79B-815EB0DB00F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03:32:04Z</dcterms:created>
  <dc:creator>Nag Boranna</dc:creator>
  <dc:description>Gives an overview of Pegasus Authentication and Authorization Implementation and usage.</dc:description>
  <dc:language>en-US</dc:language>
  <cp:lastModifiedBy>AIT</cp:lastModifiedBy>
  <cp:lastPrinted>2001-10-03T18:06:56Z</cp:lastPrinted>
  <dcterms:modified xsi:type="dcterms:W3CDTF">2002-06-19T21:11:02Z</dcterms:modified>
  <cp:revision>228</cp:revision>
  <dc:subject/>
  <dc:title>Pegasus Security</dc:title>
</cp:coreProperties>
</file>