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67CC2-4452-4754-815A-D7C65B133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89893-04DD-4FC9-AAFD-7BAEDED8E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185BD-360F-49AD-8C1C-3FD91E098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397E2-BD7B-4E94-941F-B0786AA67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5EF47-BE3E-44A4-9FCC-3ABFBFE82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C90CE-1AF1-4194-8A52-093F256A2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B942E-328E-453D-A22F-757B70024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26C99-0F61-43DC-AA18-55B858B86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AD670-6016-42D0-8079-25AF2F58A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D5CCB-940D-42F1-ABEF-CAD221DE8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F63B6-518E-4CD8-9220-701F52BD1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7BDA5-5201-42FE-8D08-817007586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/26/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egasus CIM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232AC-E79E-4127-B549-153F616345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gasus Security Archite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9320" y="373392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uthor: Nag Boran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ewlett-Packard Compa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41467-B573-46CB-9C2F-2A5049D959A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52280" y="990720"/>
            <a:ext cx="88394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 (to enable HTTP Basic Authent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to create/use the password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Add new users to cimom (Refer to pegasus/src/Clients/cimuser/doc/cimuser.ht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user ‘nag’ with password ‘nag’ (user ‘nag’ must be valid system user on that syste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user -a -u nag -w n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the cimuser CLI can only be run locally as ‘root’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Basic/Digest authentication are not fully implemented on the CIMServer and the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8C541-F41C-456B-AEA4-400BB622859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52280" y="843120"/>
            <a:ext cx="8991720" cy="46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false (to disable remote root user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Add authorizations to the CIM users (Refer to pegasus/src/Clients/cimuser/doc/cimauth.htm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both read and right authorizations to user ‘nag’ on namespace ‘root/cimv2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auth -a -u nag -n root/cimv2 -R -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user ‘root’ by default will have all the authorizations for local clients (the clients that use ConnectLocal() of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The cimauth CLI can only be run locally as ‘root’ on Unix system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EDB06-D779-44C5-B079-5AD93F08C4D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7848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Archite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25560" y="2138400"/>
            <a:ext cx="78912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ni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81080" y="9907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ccep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992240" y="260496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057400" y="26668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" name=""/>
          <p:cNvCxnSpPr>
            <a:stCxn id="44" idx="3"/>
            <a:endCxn id="45" idx="1"/>
          </p:cNvCxnSpPr>
          <p:nvPr/>
        </p:nvCxnSpPr>
        <p:spPr>
          <a:xfrm flipV="1">
            <a:off x="1714680" y="1273320"/>
            <a:ext cx="267120" cy="1148040"/>
          </a:xfrm>
          <a:prstGeom prst="curvedConnector5">
            <a:avLst>
              <a:gd name="adj1" fmla="val 49932"/>
              <a:gd name="adj2" fmla="val 50000"/>
              <a:gd name="adj3" fmla="val 4993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>
            <a:stCxn id="44" idx="3"/>
            <a:endCxn id="46" idx="1"/>
          </p:cNvCxnSpPr>
          <p:nvPr/>
        </p:nvCxnSpPr>
        <p:spPr>
          <a:xfrm>
            <a:off x="1714320" y="2421000"/>
            <a:ext cx="278280" cy="467280"/>
          </a:xfrm>
          <a:prstGeom prst="curvedConnector5">
            <a:avLst>
              <a:gd name="adj1" fmla="val 49611"/>
              <a:gd name="adj2" fmla="val 49961"/>
              <a:gd name="adj3" fmla="val 4961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2124000" y="2730600"/>
            <a:ext cx="11160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Cloud"/>
          <p:cNvSpPr/>
          <p:nvPr/>
        </p:nvSpPr>
        <p:spPr>
          <a:xfrm>
            <a:off x="304920" y="4800600"/>
            <a:ext cx="1314360" cy="8128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"/>
          <p:cNvCxnSpPr>
            <a:stCxn id="51" idx="4"/>
            <a:endCxn id="44" idx="1"/>
          </p:cNvCxnSpPr>
          <p:nvPr/>
        </p:nvCxnSpPr>
        <p:spPr>
          <a:xfrm flipH="1" rot="10800000">
            <a:off x="308520" y="2420280"/>
            <a:ext cx="616680" cy="2786760"/>
          </a:xfrm>
          <a:prstGeom prst="curvedConnector5">
            <a:avLst>
              <a:gd name="adj1" fmla="val -37850"/>
              <a:gd name="adj2" fmla="val 50000"/>
              <a:gd name="adj3" fmla="val -3785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45" idx="2"/>
            <a:endCxn id="46" idx="0"/>
          </p:cNvCxnSpPr>
          <p:nvPr/>
        </p:nvCxnSpPr>
        <p:spPr>
          <a:xfrm flipH="1" rot="16200000">
            <a:off x="2021040" y="2074680"/>
            <a:ext cx="1049760" cy="11520"/>
          </a:xfrm>
          <a:prstGeom prst="curvedConnector5">
            <a:avLst>
              <a:gd name="adj1" fmla="val 49914"/>
              <a:gd name="adj2" fmla="val 48387"/>
              <a:gd name="adj3" fmla="val 49914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 rot="5400000">
            <a:off x="2454480" y="2115360"/>
            <a:ext cx="69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84520" y="46483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leg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565600" y="4191120"/>
            <a:ext cx="1444680" cy="690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565600" y="5029200"/>
            <a:ext cx="144468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Ex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876920" y="838080"/>
            <a:ext cx="144612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50" idx="2"/>
            <a:endCxn id="55" idx="1"/>
          </p:cNvCxnSpPr>
          <p:nvPr/>
        </p:nvCxnSpPr>
        <p:spPr>
          <a:xfrm flipH="1" rot="16200000">
            <a:off x="2315160" y="3662280"/>
            <a:ext cx="1635840" cy="902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55" idx="3"/>
            <a:endCxn id="56" idx="1"/>
          </p:cNvCxnSpPr>
          <p:nvPr/>
        </p:nvCxnSpPr>
        <p:spPr>
          <a:xfrm flipV="1">
            <a:off x="4702320" y="4536720"/>
            <a:ext cx="864000" cy="394560"/>
          </a:xfrm>
          <a:prstGeom prst="curvedConnector5">
            <a:avLst>
              <a:gd name="adj1" fmla="val 49979"/>
              <a:gd name="adj2" fmla="val 49954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5" idx="3"/>
            <a:endCxn id="57" idx="1"/>
          </p:cNvCxnSpPr>
          <p:nvPr/>
        </p:nvCxnSpPr>
        <p:spPr>
          <a:xfrm>
            <a:off x="4702320" y="4930920"/>
            <a:ext cx="864000" cy="444960"/>
          </a:xfrm>
          <a:prstGeom prst="curvedConnector5">
            <a:avLst>
              <a:gd name="adj1" fmla="val 49979"/>
              <a:gd name="adj2" fmla="val 49959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" name=""/>
          <p:cNvSpPr/>
          <p:nvPr/>
        </p:nvSpPr>
        <p:spPr>
          <a:xfrm>
            <a:off x="7697880" y="1981080"/>
            <a:ext cx="1446120" cy="690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ispatc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" name=""/>
          <p:cNvCxnSpPr>
            <a:stCxn id="56" idx="0"/>
            <a:endCxn id="64" idx="2"/>
          </p:cNvCxnSpPr>
          <p:nvPr/>
        </p:nvCxnSpPr>
        <p:spPr>
          <a:xfrm flipH="1" flipV="1" rot="5400000">
            <a:off x="6191640" y="3600720"/>
            <a:ext cx="686520" cy="4942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" name=""/>
          <p:cNvCxnSpPr>
            <a:stCxn id="62" idx="0"/>
            <a:endCxn id="58" idx="3"/>
          </p:cNvCxnSpPr>
          <p:nvPr/>
        </p:nvCxnSpPr>
        <p:spPr>
          <a:xfrm flipV="1" rot="16200000">
            <a:off x="6973560" y="532440"/>
            <a:ext cx="797400" cy="2099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" name=""/>
          <p:cNvCxnSpPr>
            <a:stCxn id="58" idx="1"/>
            <a:endCxn id="50" idx="3"/>
          </p:cNvCxnSpPr>
          <p:nvPr/>
        </p:nvCxnSpPr>
        <p:spPr>
          <a:xfrm flipV="1" rot="10800000">
            <a:off x="3239280" y="1184040"/>
            <a:ext cx="1637640" cy="1829520"/>
          </a:xfrm>
          <a:prstGeom prst="curvedConnector5">
            <a:avLst>
              <a:gd name="adj1" fmla="val 49934"/>
              <a:gd name="adj2" fmla="val 49990"/>
              <a:gd name="adj3" fmla="val 499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2" idx="2"/>
            <a:endCxn id="68" idx="4"/>
          </p:cNvCxnSpPr>
          <p:nvPr/>
        </p:nvCxnSpPr>
        <p:spPr>
          <a:xfrm rot="5400000">
            <a:off x="7455960" y="3429000"/>
            <a:ext cx="1722960" cy="208800"/>
          </a:xfrm>
          <a:prstGeom prst="curvedConnector5">
            <a:avLst>
              <a:gd name="adj1" fmla="val 48463"/>
              <a:gd name="adj2" fmla="val 49913"/>
              <a:gd name="adj3" fmla="val 4846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839880" y="3159000"/>
            <a:ext cx="985680" cy="439920"/>
          </a:xfrm>
          <a:prstGeom prst="wedgeRoundRectCallout">
            <a:avLst>
              <a:gd name="adj1" fmla="val 58375"/>
              <a:gd name="adj2" fmla="val -126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2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905120" y="5105520"/>
            <a:ext cx="1600200" cy="914400"/>
          </a:xfrm>
          <a:prstGeom prst="wedgeRoundRectCallout">
            <a:avLst>
              <a:gd name="adj1" fmla="val 15773"/>
              <a:gd name="adj2" fmla="val -12569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3. HTTP 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5.HTTP Challenge Response Ms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114800" y="5638680"/>
            <a:ext cx="853920" cy="627120"/>
          </a:xfrm>
          <a:prstGeom prst="wedgeRoundRectCallout">
            <a:avLst>
              <a:gd name="adj1" fmla="val 64685"/>
              <a:gd name="adj2" fmla="val -12822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6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172200" y="160020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8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391520" y="380880"/>
            <a:ext cx="853920" cy="627120"/>
          </a:xfrm>
          <a:prstGeom prst="wedgeRoundRectCallout">
            <a:avLst>
              <a:gd name="adj1" fmla="val -41078"/>
              <a:gd name="adj2" fmla="val 10113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9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76720" y="838080"/>
            <a:ext cx="914400" cy="690840"/>
          </a:xfrm>
          <a:prstGeom prst="wedgeRoundRectCallout">
            <a:avLst>
              <a:gd name="adj1" fmla="val 50694"/>
              <a:gd name="adj2" fmla="val 6563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0.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Cloud"/>
          <p:cNvSpPr/>
          <p:nvPr/>
        </p:nvSpPr>
        <p:spPr>
          <a:xfrm>
            <a:off x="7391520" y="4343400"/>
            <a:ext cx="1643040" cy="8794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ovi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" name=""/>
          <p:cNvCxnSpPr>
            <a:stCxn id="50" idx="2"/>
            <a:endCxn id="51" idx="5"/>
          </p:cNvCxnSpPr>
          <p:nvPr/>
        </p:nvCxnSpPr>
        <p:spPr>
          <a:xfrm rot="5400000">
            <a:off x="1194120" y="3718800"/>
            <a:ext cx="1911960" cy="10656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" name=""/>
          <p:cNvSpPr/>
          <p:nvPr/>
        </p:nvSpPr>
        <p:spPr>
          <a:xfrm>
            <a:off x="230040" y="1330200"/>
            <a:ext cx="1219320" cy="439920"/>
          </a:xfrm>
          <a:prstGeom prst="wedgeRoundRectCallout">
            <a:avLst>
              <a:gd name="adj1" fmla="val -26560"/>
              <a:gd name="adj2" fmla="val 239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dy for 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38080" y="4038480"/>
            <a:ext cx="984240" cy="533520"/>
          </a:xfrm>
          <a:prstGeom prst="wedgeRoundRectCallout">
            <a:avLst>
              <a:gd name="adj1" fmla="val 116611"/>
              <a:gd name="adj2" fmla="val 208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267080" y="22096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" name=""/>
          <p:cNvCxnSpPr>
            <a:stCxn id="55" idx="0"/>
            <a:endCxn id="78" idx="2"/>
          </p:cNvCxnSpPr>
          <p:nvPr/>
        </p:nvCxnSpPr>
        <p:spPr>
          <a:xfrm flipH="1" flipV="1" rot="5400000">
            <a:off x="3595320" y="3366720"/>
            <a:ext cx="1829520" cy="734400"/>
          </a:xfrm>
          <a:prstGeom prst="curvedConnector5">
            <a:avLst>
              <a:gd name="adj1" fmla="val 49990"/>
              <a:gd name="adj2" fmla="val 49975"/>
              <a:gd name="adj3" fmla="val 4999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0" name=""/>
          <p:cNvCxnSpPr>
            <a:stCxn id="55" idx="1"/>
            <a:endCxn id="50" idx="3"/>
          </p:cNvCxnSpPr>
          <p:nvPr/>
        </p:nvCxnSpPr>
        <p:spPr>
          <a:xfrm rot="10800000">
            <a:off x="3239280" y="3012480"/>
            <a:ext cx="345240" cy="1918440"/>
          </a:xfrm>
          <a:prstGeom prst="curvedConnector5">
            <a:avLst>
              <a:gd name="adj1" fmla="val 49686"/>
              <a:gd name="adj2" fmla="val 50000"/>
              <a:gd name="adj3" fmla="val 496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1" name=""/>
          <p:cNvSpPr/>
          <p:nvPr/>
        </p:nvSpPr>
        <p:spPr>
          <a:xfrm>
            <a:off x="3581280" y="2895480"/>
            <a:ext cx="1067040" cy="762120"/>
          </a:xfrm>
          <a:prstGeom prst="wedgeRoundRectCallout">
            <a:avLst>
              <a:gd name="adj1" fmla="val -66518"/>
              <a:gd name="adj2" fmla="val 1081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4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lle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28954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" name=""/>
          <p:cNvCxnSpPr>
            <a:stCxn id="64" idx="0"/>
          </p:cNvCxnSpPr>
          <p:nvPr/>
        </p:nvCxnSpPr>
        <p:spPr>
          <a:xfrm flipH="1" flipV="1" rot="5400000">
            <a:off x="6896520" y="2093760"/>
            <a:ext cx="686520" cy="9169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5257800" y="327672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7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57" idx="3"/>
            <a:endCxn id="64" idx="2"/>
          </p:cNvCxnSpPr>
          <p:nvPr/>
        </p:nvCxnSpPr>
        <p:spPr>
          <a:xfrm flipH="1" flipV="1">
            <a:off x="6780960" y="3504960"/>
            <a:ext cx="229320" cy="1870560"/>
          </a:xfrm>
          <a:prstGeom prst="curvedConnector5">
            <a:avLst>
              <a:gd name="adj1" fmla="val -100000"/>
              <a:gd name="adj2" fmla="val 36034"/>
              <a:gd name="adj3" fmla="val -1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9F837-186D-4D46-B93A-AC4F5ED63B7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6576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860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4191120" y="2308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0292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6576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8954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386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19112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95480" y="2612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2514600" y="2612880"/>
            <a:ext cx="38088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71500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624852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0866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7150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528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960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24852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952880" y="4898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3434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7695720" y="4898880"/>
            <a:ext cx="38124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7" name=""/>
          <p:cNvCxnSpPr>
            <a:stCxn id="87" idx="3"/>
            <a:endCxn id="86" idx="0"/>
          </p:cNvCxnSpPr>
          <p:nvPr/>
        </p:nvCxnSpPr>
        <p:spPr>
          <a:xfrm flipV="1">
            <a:off x="2589120" y="1752120"/>
            <a:ext cx="1627920" cy="270720"/>
          </a:xfrm>
          <a:prstGeom prst="curvedConnector5">
            <a:avLst>
              <a:gd name="adj1" fmla="val 32780"/>
              <a:gd name="adj2" fmla="val 92276"/>
              <a:gd name="adj3" fmla="val 3278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endCxn id="97" idx="3"/>
          </p:cNvCxnSpPr>
          <p:nvPr/>
        </p:nvCxnSpPr>
        <p:spPr>
          <a:xfrm flipH="1" rot="16200000">
            <a:off x="5962680" y="3450960"/>
            <a:ext cx="1156320" cy="584640"/>
          </a:xfrm>
          <a:prstGeom prst="curvedConnector5">
            <a:avLst>
              <a:gd name="adj1" fmla="val 37745"/>
              <a:gd name="adj2" fmla="val 69562"/>
              <a:gd name="adj3" fmla="val 3774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1295280" y="403848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182880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9528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82880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3" name=""/>
          <p:cNvCxnSpPr>
            <a:stCxn id="88" idx="1"/>
            <a:endCxn id="109" idx="1"/>
          </p:cNvCxnSpPr>
          <p:nvPr/>
        </p:nvCxnSpPr>
        <p:spPr>
          <a:xfrm flipV="1" rot="10800000">
            <a:off x="1294560" y="3161160"/>
            <a:ext cx="991440" cy="1159560"/>
          </a:xfrm>
          <a:prstGeom prst="curvedConnector5">
            <a:avLst>
              <a:gd name="adj1" fmla="val 123065"/>
              <a:gd name="adj2" fmla="val 50000"/>
              <a:gd name="adj3" fmla="val 1230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4" name=""/>
          <p:cNvSpPr/>
          <p:nvPr/>
        </p:nvSpPr>
        <p:spPr>
          <a:xfrm>
            <a:off x="299736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5" name=""/>
          <p:cNvCxnSpPr>
            <a:endCxn id="114" idx="0"/>
          </p:cNvCxnSpPr>
          <p:nvPr/>
        </p:nvCxnSpPr>
        <p:spPr>
          <a:xfrm rot="5400000">
            <a:off x="3568320" y="3416040"/>
            <a:ext cx="610200" cy="635760"/>
          </a:xfrm>
          <a:prstGeom prst="curvedConnector5">
            <a:avLst>
              <a:gd name="adj1" fmla="val 50000"/>
              <a:gd name="adj2" fmla="val 49971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6" name=""/>
          <p:cNvSpPr/>
          <p:nvPr/>
        </p:nvSpPr>
        <p:spPr>
          <a:xfrm>
            <a:off x="2971800" y="594360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601992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914400"/>
            <a:ext cx="990720" cy="474840"/>
          </a:xfrm>
          <a:prstGeom prst="wedgeRoundRectCallout">
            <a:avLst>
              <a:gd name="adj1" fmla="val 11537"/>
              <a:gd name="adj2" fmla="val 11588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 Specifi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638680" y="1752480"/>
            <a:ext cx="1752840" cy="855720"/>
          </a:xfrm>
          <a:prstGeom prst="wedgeRoundRectCallout">
            <a:avLst>
              <a:gd name="adj1" fmla="val -15217"/>
              <a:gd name="adj2" fmla="val 8655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s HTTP Specific Information, but does not deal with the protoc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62315-9181-4649-B05E-81F512B325E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3434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3" name=""/>
          <p:cNvCxnSpPr>
            <a:stCxn id="122" idx="3"/>
            <a:endCxn id="121" idx="1"/>
          </p:cNvCxnSpPr>
          <p:nvPr/>
        </p:nvCxnSpPr>
        <p:spPr>
          <a:xfrm>
            <a:off x="2588760" y="2022120"/>
            <a:ext cx="1755000" cy="13320"/>
          </a:xfrm>
          <a:prstGeom prst="curvedConnector5">
            <a:avLst>
              <a:gd name="adj1" fmla="val 49938"/>
              <a:gd name="adj2" fmla="val 50000"/>
              <a:gd name="adj3" fmla="val 4993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68580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5" name=""/>
          <p:cNvCxnSpPr>
            <a:stCxn id="121" idx="3"/>
            <a:endCxn id="124" idx="1"/>
          </p:cNvCxnSpPr>
          <p:nvPr/>
        </p:nvCxnSpPr>
        <p:spPr>
          <a:xfrm>
            <a:off x="5460480" y="2034720"/>
            <a:ext cx="1397880" cy="10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6934320" y="3200400"/>
            <a:ext cx="1114200" cy="677880"/>
          </a:xfrm>
          <a:prstGeom prst="can">
            <a:avLst>
              <a:gd name="adj" fmla="val 25000"/>
            </a:avLst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stan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7" name=""/>
          <p:cNvCxnSpPr>
            <a:stCxn id="124" idx="2"/>
            <a:endCxn id="126" idx="1"/>
          </p:cNvCxnSpPr>
          <p:nvPr/>
        </p:nvCxnSpPr>
        <p:spPr>
          <a:xfrm flipH="1" rot="16200000">
            <a:off x="7011720" y="2721600"/>
            <a:ext cx="883440" cy="75240"/>
          </a:xfrm>
          <a:prstGeom prst="curvedConnector5">
            <a:avLst>
              <a:gd name="adj1" fmla="val 49979"/>
              <a:gd name="adj2" fmla="val 50000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 rot="16200000">
            <a:off x="6413040" y="2045160"/>
            <a:ext cx="545400" cy="13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ad Authoriz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16200000">
            <a:off x="5879520" y="9763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rot="16200000">
            <a:off x="3136320" y="9781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C8C7F-7E3C-4B90-8AE3-8E6A630DEE7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380880"/>
            <a:ext cx="8686800" cy="63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HTTPAuthenticatorDelegator que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AuthenticatorDelegator creates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Handlers (Currently it is creating instances of Authentication Handlers, but it should be changed to dynamically load those handlers)</a:t>
            </a:r>
            <a:br>
              <a:rPr sz="1600"/>
            </a:b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queue gets created when there is connection request from a client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creates AuthenticationInfo object to keep track of the authentication information for this connection. HTTPConnection and AuthenticationInfo object gets created for each new connection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gets CIM requests, adds AuthenticationInfo object reference &amp; passes to Delegator 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Delegator parse the request and looks for ‘Authorization’ or ‘PegasusAuthorization’ header tag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and ‘PegasusAuthorization’ tags are not found: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getAuthResponseHeader() of the AuthenticationManger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Sends challenge to the HTTPConnection queue, and eventually to the cli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Http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Pegasus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Pegasus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n all these cases the AuthenticationInfo object is updated with the authentication status for that connection ses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FF872-BBCE-4CF8-AFC3-066825778AB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04920" y="609480"/>
            <a:ext cx="8686800" cy="560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 Handlers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perforHttpAuthentication() or performPegasusAuthentication() methods are call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t parses the HTTP headers to get the auth type, user name &amp; password in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authenticate() method of the Authentication Handler modu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On successful authentication, updates AuthenticationInfo object and returns true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getAuthResoponseHeader() method is called, it gets the header from Authentication Handl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Handle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LocalAuthenticationHandle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the Authenticator interfa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response header when getAuthResoponseHeader() method is called (may get the header information from the authenticator module)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Extracts user name and password (or digest string) from the header info passed with the authenticate() and calls the authenticate() method of the loaded authenticator modu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o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SecureLocalAuthenticator)</a:t>
            </a:r>
            <a:br>
              <a:rPr sz="18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specific authenticator interface (e.g, BasicAuthenticato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getAuthResponseHeader() method will return the authentication challenge header info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authenticate() method will verify the user name and password or the digest string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return true on successful authentication, false otherwis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BE028-F421-41ED-B7E3-DA2778FEF24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52280" y="934920"/>
            <a:ext cx="8686800" cy="36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CIMOperationRequestAuthorizer queue if requireAuthorization config property is set to tr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gets an instance of UserMan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reates AuthirizationHandl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Handler loads authorizations from the Repository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queue receives a request message from Decod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calls verifyAuthorization( ) method of UserManager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alls verifyAuthorization( ) method of AuthorizationHandl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orizationHandler verifies the authorizations and return true if authorization were found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F5D06-47F2-4547-8895-D04FAEC972B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609480"/>
            <a:ext cx="8686800" cy="32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MOperationRequestAuthoriz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Gets the user name, namespace, authentication type and CIM method names from the CIM requ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alls UserManager’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6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AuthirizationHandler and calls it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orization Hand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Loads authorizations from the repository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Verifies user authorizations when verifyAuthorization( ) method is call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72181-24E5-4500-B00B-3BFD927C843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Configu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1066680"/>
            <a:ext cx="8458200" cy="40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entic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| Dig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use the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oriz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true | false (enable or disable remote root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C9376-96D6-431C-8F10-F6668065F29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0T03:32:04Z</dcterms:created>
  <dc:creator>Nag Boranna</dc:creator>
  <dc:description>Gives an overview of Pegasus Authentication and Authorization Implementation and usage.</dc:description>
  <dc:language>en-US</dc:language>
  <cp:lastModifiedBy>AIT</cp:lastModifiedBy>
  <cp:lastPrinted>2001-10-03T18:06:56Z</cp:lastPrinted>
  <dcterms:modified xsi:type="dcterms:W3CDTF">2002-06-19T21:11:02Z</dcterms:modified>
  <cp:revision>228</cp:revision>
  <dc:subject/>
  <dc:title>Pegasus Security</dc:title>
</cp:coreProperties>
</file>